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1454-8DFA-453F-BBAB-519768F91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29BD-6941-4B73-BBC1-68DB071E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CB54-4004-4294-8728-3CFA95B5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6F83-4A92-4737-ACC1-8BBD7AF9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2DA3-EE7D-42E0-8100-EAA90882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C499-BECA-4D8F-A68F-874FDAC3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6E3C-0928-47CE-9BEB-EA5E2FD2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587E-D837-4137-8325-7BEDFDFC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C2B0-FAD1-44FF-B96D-CC5BAC67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7B99-154A-4930-91F9-8548FA77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220C-DED7-473D-BEFA-27DA6269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D4E0-AC31-462C-AF8B-06000245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61F6-70D9-427E-937D-E47A5201E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5627520" cy="126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4114800" cy="1015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57200" y="3276720"/>
            <a:ext cx="8001000" cy="11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190760" cy="1000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8763120" cy="18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8:41:06Z</dcterms:created>
  <dc:creator>Graham</dc:creator>
  <dc:description/>
  <dc:language>en-US</dc:language>
  <cp:lastModifiedBy>Graham</cp:lastModifiedBy>
  <dcterms:modified xsi:type="dcterms:W3CDTF">2012-09-30T18:41:10Z</dcterms:modified>
  <cp:revision>1</cp:revision>
  <dc:subject/>
  <dc:title>Slide 1</dc:title>
</cp:coreProperties>
</file>